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C387-677B-475B-9372-47B0AAF82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EF81-FF9D-4449-8FAF-EDAC4665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44C0-B507-42BD-A0BA-0D0A16735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1B39-4601-48B4-B9CA-891A6DC81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0047-2F48-418E-B8FC-798FFD30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DE93-FD95-4D1E-9E6A-1D4BDBE0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02F8-746C-4BA2-BE53-C28971D1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635E-20E3-4706-A3FA-E9329EEF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F936-FD4B-434E-8A8C-791FCD6F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701A-9CEB-4F61-A4DA-EC758536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9316-4690-48EC-A571-F2E8F82E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A901-751F-4597-8376-58427AAF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048E4-1887-468A-BF60-B78D9F353E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tudi.dikti.go.id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0" y="1463760"/>
            <a:ext cx="10145880" cy="44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NDUAN VALID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PANJANGAN STU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tuk Operator Perguruan Ting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kah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12800" y="5761080"/>
            <a:ext cx="907272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n ke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studi.dikti.go.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nggunakan akun Anda masing-m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68800" y="1646280"/>
            <a:ext cx="3406680" cy="45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kah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4846680"/>
            <a:ext cx="9070920" cy="219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ih grup menu Administrasi, lalu klik pada menu Perpanjangan Stu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ik tombol           untuk melihat daftar karyasiswa yang mengajukan perpanjangan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95320" y="1511280"/>
            <a:ext cx="8156520" cy="3151080"/>
          </a:xfrm>
          <a:prstGeom prst="rect">
            <a:avLst/>
          </a:prstGeom>
          <a:ln w="9360">
            <a:solidFill>
              <a:srgbClr val="3465a4"/>
            </a:solidFill>
            <a:round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068640" y="5761080"/>
            <a:ext cx="771480" cy="5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kah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1520" y="4936680"/>
            <a:ext cx="9070920" cy="2468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ih status perpanjangan 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jukan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lu klik tombo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jutk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ik tombol folder untuk melihat detail usu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20960" y="1555920"/>
            <a:ext cx="6492960" cy="3149280"/>
          </a:xfrm>
          <a:prstGeom prst="rect">
            <a:avLst/>
          </a:prstGeom>
          <a:ln w="9360">
            <a:solidFill>
              <a:srgbClr val="3465a4"/>
            </a:solidFill>
            <a:round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kah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4479840"/>
            <a:ext cx="90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88000"/>
          </a:bodyPr>
          <a:p>
            <a:pPr marL="3798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SES VALIDASI 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800" indent="-284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ik ta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ses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lu pilih statu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id Pengelola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ikan catatan apabila perlu, lalu klik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p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800" indent="-284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hatian. </a:t>
            </a:r>
            <a:r>
              <a:rPr b="1" lang="en-US" sz="3200" spc="-1" strike="noStrike">
                <a:solidFill>
                  <a:srgbClr val="ff3333"/>
                </a:solidFill>
                <a:latin typeface="Arial"/>
              </a:rPr>
              <a:t>Data yang tidak lengkap/tidak memenuhi syarat tidak boleh divalidas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81240" y="1371600"/>
            <a:ext cx="5683320" cy="3017880"/>
          </a:xfrm>
          <a:prstGeom prst="rect">
            <a:avLst/>
          </a:prstGeom>
          <a:ln w="9360">
            <a:solidFill>
              <a:srgbClr val="3465a4"/>
            </a:solidFill>
            <a:round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8T00:21:36Z</dcterms:created>
  <dc:creator/>
  <dc:description/>
  <dc:language>en-US</dc:language>
  <cp:lastModifiedBy/>
  <dcterms:modified xsi:type="dcterms:W3CDTF">2015-06-26T16:36:33Z</dcterms:modified>
  <cp:revision>16</cp:revision>
  <dc:subject/>
  <dc:title/>
</cp:coreProperties>
</file>