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B2B-102B-4146-9252-27642609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B0A-DFA7-44CC-A4E8-C96B0B73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09E-13CF-4480-B114-B9004922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DF3-3FE9-49C9-8654-E515B102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165-1B77-4D8E-82C2-80F46C7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347-F73F-4E76-94D8-D6870DEB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FB3-BF24-447E-9C0C-7822E90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8C8-B435-44B5-9F21-7BD170D0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4FE-0666-4052-AB79-E7A4504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649-AEF7-4AE2-B923-A5B5F288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6CD-7DE1-4BD1-8A81-8C47312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D32-5935-414D-AA3C-54516E5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D1ACE-8F5E-4D92-8FE1-B33A6AC85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Karyasis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32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si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pada me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280" y="2286000"/>
            <a:ext cx="8974080" cy="196524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3657240"/>
            <a:ext cx="907092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3000"/>
          </a:bodyPr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selanjutnya bergantung p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ersediaan periode perpanjangan yang ditawarkan oleh Di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760" indent="-2689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umen publikasi harus ada (khusus untuk beasiswa 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pilan di atas adalah apabila Anda memenuhi syarat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200" indent="-268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ukan Perpanjangan Stud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uk konfirmasi pendaftaran 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2360" y="1563840"/>
            <a:ext cx="9051840" cy="18288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bila berhasil, tampilan akan seperti gambar di a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gambar folder di dalam kolom aksi untuk mengupload dokumen tambahan yang diminta Dik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46040" y="1755720"/>
            <a:ext cx="7523280" cy="208440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9360" y="5459040"/>
            <a:ext cx="90709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akan upload dokumen untuk masing-masing jenis dokumen yang dim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11200" y="1428840"/>
            <a:ext cx="7732800" cy="36003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elah semua dokumen yang dibutuhkan ter-upload, kembali ke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bergambar panah (di samping tombol folder). Ini berfungsi untuk mengubah status perpanjangan Anda dar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f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2240" y="5029200"/>
            <a:ext cx="8961480" cy="73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2240" y="48466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ka tampilan sudah sama seperti di bawah ini, proses pengajuan Anda telah selesai. Tunggu proses validasi lebih lanj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tikan bahwa status ajuan menjadi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2920" y="4749840"/>
            <a:ext cx="9462960" cy="644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0240" y="4389480"/>
            <a:ext cx="2193840" cy="1189080"/>
          </a:xfrm>
          <a:prstGeom prst="ellipse">
            <a:avLst/>
          </a:pr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01:43Z</dcterms:modified>
  <cp:revision>12</cp:revision>
  <dc:subject/>
  <dc:title/>
</cp:coreProperties>
</file>